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3.jpeg" ContentType="image/jpeg"/>
  <Override PartName="/ppt/media/image21.gif" ContentType="image/gif"/>
  <Override PartName="/ppt/media/image19.png" ContentType="image/png"/>
  <Override PartName="/ppt/media/image20.gif" ContentType="image/gif"/>
  <Override PartName="/ppt/media/image18.gif" ContentType="image/gif"/>
  <Override PartName="/ppt/media/image17.jpeg" ContentType="image/jpeg"/>
  <Override PartName="/ppt/media/image14.gif" ContentType="image/gif"/>
  <Override PartName="/ppt/media/image1.jpeg" ContentType="image/jpeg"/>
  <Override PartName="/ppt/media/image7.jpeg" ContentType="image/jpeg"/>
  <Override PartName="/ppt/media/image22.gif" ContentType="image/gif"/>
  <Override PartName="/ppt/media/image4.jpeg" ContentType="image/jpeg"/>
  <Override PartName="/ppt/media/image13.gif" ContentType="image/gif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AD0-5643-4448-A1B3-64484907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08E-493C-4914-B742-C4CD1BAF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FDF-DE7F-48FD-A567-A0143E9B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607-C793-4E3D-B295-6343C39B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441A-27A2-4A0F-90F9-E20D085E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E8FD-87BB-49DF-B253-E60E6F75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C911-8F22-45D0-A1AE-48E8DAF2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3688-B204-4D3E-98D0-ECAA174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E185-02C6-4D1C-AA82-B0AF2DE1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D19F-8A43-437C-8751-0B4421B5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10A5-EB46-48F0-99D8-CE24CDD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376-7BED-46B8-AB92-BCFA14D1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2AE7-F02A-429D-A0CD-F0DD52DB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11F3-97BF-48E2-9B91-8AF56826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ED1E-B3CC-4FF6-93CF-28308D8D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1662-9FCB-4386-A66C-472592F9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BF48-744A-4D6A-95CE-0BFB1B9F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7C74-F429-48A5-BFD7-C1229D64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BA0D-CA12-4570-B548-97A98384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B473-C1C5-4A70-B33E-81AD67DA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F5DD-48F5-497D-993F-E0E13183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8E0A-A6EB-429D-8E0A-84A5CC62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647-6E4C-4D78-AAB5-6CAA85D2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C957-EE37-460F-BA5D-86275332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6BE9-2C39-4D27-B50C-7D5F335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425E-7F60-4531-96E9-9E603795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45D5-73E1-4742-9959-D1CDA6DD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4155-A2A7-41B3-B056-5977F806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E4FE-BD57-42A1-8B6D-9A63922D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35F97-FE78-4D83-B787-3B5EEA87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2B9B-277A-4825-A823-DC4E6CC5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54547-AF60-4983-B524-E5CE30E8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9E47-288C-48E7-AA99-F7BF8673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3F1-1098-417D-8AAE-A5A83F83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9B10-B2EB-4620-834A-2ABCA6E6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6D2DF-FB0D-46CD-BFCA-0AA6659B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ADBC-AA0B-4A6C-B8DF-CCEEF1A8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5721D-4065-4071-9035-7AC8FCD4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A6D9A-E19C-44BB-BF88-CFADD779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8B7C7-1627-4579-97BC-158AD9CA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468D-7EF7-46F7-A954-AFC087DF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66C7-56CA-4166-A62F-6A03D6C8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E94C9-A998-4548-84EF-0FB3A8FF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F5B-FD46-4AA5-93F7-31125FF2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911-120E-4810-8EAE-0F183DC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F14-AC42-4796-A3F5-0FE77DB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708-4A0F-4954-BBBC-9A163ADD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591-1FD2-4899-81F5-41F9E7C5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92B401-F187-45C2-A8D6-86325D1E631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ABCC1A-5259-4FBF-A54F-499EF83663C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60AF85-1191-4871-86AC-3C47A970CDD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A09F5B-8512-4B9A-B149-119B01753B9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одержимое 3" descr="image.gif"/>
          <p:cNvPicPr/>
          <p:nvPr/>
        </p:nvPicPr>
        <p:blipFill>
          <a:blip r:embed="rId1"/>
          <a:stretch/>
        </p:blipFill>
        <p:spPr>
          <a:xfrm>
            <a:off x="1785960" y="1643040"/>
            <a:ext cx="5880960" cy="28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Informal Roman"/>
              </a:rPr>
              <a:t>Guess a riddle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холм подняться я решил. Холм по-английски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одержимое 6"/>
          <p:cNvSpPr/>
          <p:nvPr/>
        </p:nvSpPr>
        <p:spPr>
          <a:xfrm>
            <a:off x="457200" y="2500200"/>
            <a:ext cx="4039920" cy="316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ился в поле. Все болит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ле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3">
                    <a:lumMod val="50000"/>
                  </a:schemeClr>
                </a:solidFill>
                <a:latin typeface="Arial Black"/>
              </a:rPr>
              <a:t>Make up sentences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192888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 lot of/ hills/ there are/ in the/ green/ country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/ a long/ your/ there is/ town/ riv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4">
                    <a:lumMod val="75000"/>
                  </a:schemeClr>
                </a:solidFill>
                <a:latin typeface="Chiller"/>
              </a:rPr>
              <a:t>Divide the descriptions into 2 columns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Содержимое 3"/>
          <p:cNvGraphicFramePr/>
          <p:nvPr/>
        </p:nvGraphicFramePr>
        <p:xfrm>
          <a:off x="457200" y="1600200"/>
          <a:ext cx="8229240" cy="197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714240" y="4357800"/>
            <a:ext cx="3857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3790800"/>
            <a:ext cx="385740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It is big. It is noisy. You can see a lot of cars, buses and tram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4933800"/>
            <a:ext cx="400032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It is quiet. It is peaceful. It is green. You can see a lot of apple trees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071960" y="3790800"/>
            <a:ext cx="47858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The streets are wide and long. There are many people in the streets. They are always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714920" y="4786200"/>
            <a:ext cx="4214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14880" y="4862520"/>
            <a:ext cx="45716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There are a lot of buildings. The houses are big and tall. You can see many bridg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43120" y="5861160"/>
            <a:ext cx="4785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streets are small. There are many animal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7407E-006 L -2.77778E-006 -0.30463 E">
                                      <p:cBhvr>
                                        <p:cTn id="1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-0.03032 L 0.39184 -0.46088 E">
                                      <p:cBhvr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42048 -0.18912 E">
                                      <p:cBhvr>
                                        <p:cTn id="17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-0.45504 -0.24051 E">
                                      <p:cBhvr>
                                        <p:cTn id="1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3056 L 0.17344 -0.38473 E">
                                      <p:cBhvr>
                                        <p:cTn id="1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Mark the correct sentence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777204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cow in the country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chemeClr val="accent1">
                    <a:lumMod val="50000"/>
                  </a:schemeClr>
                </a:solidFill>
                <a:latin typeface="Juice ITC"/>
              </a:rPr>
              <a:t>Complete the sentences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1571760"/>
            <a:ext cx="7772040" cy="39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(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ве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in the countr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of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рыбы) 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the river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garden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shop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orbel"/>
              </a:rPr>
              <a:t>Mark the singular noun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000160"/>
            <a:ext cx="777204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n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9862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6">
                    <a:lumMod val="50000"/>
                  </a:schemeClr>
                </a:solidFill>
                <a:latin typeface="Chiller"/>
              </a:rPr>
              <a:t>Which word is spelt in the wrong way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32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ver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ry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ve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not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ous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it because …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E:\Английский язык\Фотографии\мультгерои\image28.gif"/>
          <p:cNvPicPr/>
          <p:nvPr/>
        </p:nvPicPr>
        <p:blipFill>
          <a:blip r:embed="rId1"/>
          <a:stretch/>
        </p:blipFill>
        <p:spPr>
          <a:xfrm>
            <a:off x="4643280" y="42876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E:\Английский язык\Фотографии\мультгерои\нюша 2.png"/>
          <p:cNvPicPr/>
          <p:nvPr/>
        </p:nvPicPr>
        <p:blipFill>
          <a:blip r:embed="rId2"/>
          <a:stretch/>
        </p:blipFill>
        <p:spPr>
          <a:xfrm>
            <a:off x="4857840" y="2214720"/>
            <a:ext cx="3936240" cy="421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E:\Английский язык\Фотографии\мультгерои\матроскин.gif"/>
          <p:cNvPicPr/>
          <p:nvPr/>
        </p:nvPicPr>
        <p:blipFill>
          <a:blip r:embed="rId3"/>
          <a:stretch/>
        </p:blipFill>
        <p:spPr>
          <a:xfrm>
            <a:off x="4714920" y="92880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:\Английский язык\Фотографии\мультгерои\parrot kesha.gif"/>
          <p:cNvPicPr/>
          <p:nvPr/>
        </p:nvPicPr>
        <p:blipFill>
          <a:blip r:embed="rId4"/>
          <a:stretch/>
        </p:blipFill>
        <p:spPr>
          <a:xfrm>
            <a:off x="5000760" y="2286000"/>
            <a:ext cx="34239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3" descr="thank_you_011.gif"/>
          <p:cNvPicPr/>
          <p:nvPr/>
        </p:nvPicPr>
        <p:blipFill>
          <a:blip r:embed="rId1"/>
          <a:stretch/>
        </p:blipFill>
        <p:spPr>
          <a:xfrm>
            <a:off x="2143080" y="1285920"/>
            <a:ext cx="4971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3" descr="good bye 13.jpg"/>
          <p:cNvPicPr/>
          <p:nvPr/>
        </p:nvPicPr>
        <p:blipFill>
          <a:blip r:embed="rId1"/>
          <a:stretch/>
        </p:blipFill>
        <p:spPr>
          <a:xfrm>
            <a:off x="2143080" y="928800"/>
            <a:ext cx="4643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Country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d</a:t>
            </a: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chemeClr val="accent5">
                    <a:lumMod val="50000"/>
                  </a:schemeClr>
                </a:solidFill>
                <a:latin typeface="Cooper Black"/>
              </a:rPr>
              <a:t>Cit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3" descr="city_country.jpg"/>
          <p:cNvPicPr/>
          <p:nvPr/>
        </p:nvPicPr>
        <p:blipFill>
          <a:blip r:embed="rId1"/>
          <a:stretch/>
        </p:blipFill>
        <p:spPr>
          <a:xfrm>
            <a:off x="1523880" y="1720080"/>
            <a:ext cx="609552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rgbClr val="17375e"/>
                </a:solidFill>
                <a:latin typeface="Chiller"/>
              </a:rPr>
              <a:t>Choose the appropriate word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10717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ouses in the city are very …. 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small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angr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wind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icture 2"/>
          <p:cNvSpPr/>
          <p:nvPr/>
        </p:nvSpPr>
        <p:spPr>
          <a:xfrm>
            <a:off x="428760" y="3429000"/>
            <a:ext cx="3428640" cy="21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Which words are connected with </a:t>
            </a:r>
            <a:r>
              <a:rPr b="1" lang="en-US" sz="4400" spc="-1" strike="noStrike" cap="all">
                <a:solidFill>
                  <a:schemeClr val="accent1">
                    <a:lumMod val="75000"/>
                  </a:schemeClr>
                </a:solidFill>
                <a:latin typeface="Chiller"/>
              </a:rPr>
              <a:t>a city</a:t>
            </a: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42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icture 2"/>
          <p:cNvSpPr/>
          <p:nvPr/>
        </p:nvSpPr>
        <p:spPr>
          <a:xfrm>
            <a:off x="428760" y="3500280"/>
            <a:ext cx="3571560" cy="2041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eeece1">
                <a:lumMod val="2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70c0"/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 как здесь красиво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ща там, здесь речка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одержимое 6"/>
          <p:cNvSpPr/>
          <p:nvPr/>
        </p:nvSpPr>
        <p:spPr>
          <a:xfrm>
            <a:off x="457200" y="2635560"/>
            <a:ext cx="4039920" cy="302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080" y="1285920"/>
            <a:ext cx="4041360" cy="88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знали, сообщаю вам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ферма – это …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одержимое 7"/>
          <p:cNvSpPr/>
          <p:nvPr/>
        </p:nvSpPr>
        <p:spPr>
          <a:xfrm>
            <a:off x="4714920" y="2286000"/>
            <a:ext cx="390348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8064a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030a0"/>
                </a:solidFill>
                <a:latin typeface="Arial Rounded MT Bold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хочет всем помочь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6"/>
          <p:cNvSpPr/>
          <p:nvPr/>
        </p:nvSpPr>
        <p:spPr>
          <a:xfrm>
            <a:off x="714240" y="2500200"/>
            <a:ext cx="3357360" cy="3873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 наш город посетите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это будет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7"/>
          <p:cNvSpPr/>
          <p:nvPr/>
        </p:nvSpPr>
        <p:spPr>
          <a:xfrm>
            <a:off x="4572000" y="271476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4f81bd">
                <a:lumMod val="40000"/>
                <a:lumOff val="6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a452a"/>
                </a:solidFill>
                <a:latin typeface="Berlin Sans FB Demi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еревню ехать очень рад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ня –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6" descr="8ZX4D00Z.jpg"/>
          <p:cNvPicPr/>
          <p:nvPr/>
        </p:nvPicPr>
        <p:blipFill>
          <a:blip r:embed="rId1"/>
          <a:stretch/>
        </p:blipFill>
        <p:spPr>
          <a:xfrm>
            <a:off x="427320" y="2500200"/>
            <a:ext cx="4073040" cy="3278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99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рень в саду цветет. Прохлада. Сад по-английски – это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й вам задам вопро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ак назвали лошадь?» -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6" descr="905478307.gif"/>
          <p:cNvPicPr/>
          <p:nvPr/>
        </p:nvPicPr>
        <p:blipFill>
          <a:blip r:embed="rId1"/>
          <a:stretch/>
        </p:blipFill>
        <p:spPr>
          <a:xfrm>
            <a:off x="457200" y="2594520"/>
            <a:ext cx="4039920" cy="3111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вою Буренку называю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ушка – коровушка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7" descr="1944.gif"/>
          <p:cNvPicPr/>
          <p:nvPr/>
        </p:nvPicPr>
        <p:blipFill>
          <a:blip r:embed="rId2"/>
          <a:stretch/>
        </p:blipFill>
        <p:spPr>
          <a:xfrm>
            <a:off x="5000760" y="257184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Harlow Solid Italic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рисуешь доченька?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очка, смотри! Я рисую дерево, по – английски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6" descr="tree2.gif"/>
          <p:cNvPicPr/>
          <p:nvPr/>
        </p:nvPicPr>
        <p:blipFill>
          <a:blip r:embed="rId1"/>
          <a:stretch/>
        </p:blipFill>
        <p:spPr>
          <a:xfrm>
            <a:off x="642960" y="2286000"/>
            <a:ext cx="3492000" cy="3951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 тропинки стадо пас. Тропинка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одержимое 7"/>
          <p:cNvSpPr/>
          <p:nvPr/>
        </p:nvSpPr>
        <p:spPr>
          <a:xfrm>
            <a:off x="5214960" y="2286000"/>
            <a:ext cx="264276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9bbb59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45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3-04-29T21:30:40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